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34F5-B124-4DD9-B16E-4F6E62F46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2259-CF2B-4B62-A260-C8927DDB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2574-C01E-4C65-B31E-3F450E03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CA1C-1302-4B67-94D2-E98A057AA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0341-4AFA-4AC6-9F07-AB8DCED8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3DB4-C652-47EC-A116-7BDA2992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602B-11A1-44B8-B25D-BE7062EA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CE09-361F-4E16-9F14-3BADF7D1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FD53-8808-47B3-9657-BCD14408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E0CE-F265-4654-A970-F5965D9C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0D02-B931-444F-882A-B4B2C7E6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8C28-4854-4CDF-8314-FAC21CF0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38FF-ADC3-474D-8285-94E3BDCD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D735-70BD-4FC0-95E9-592140C0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CF7D-0B52-4DC9-9B66-15F154F6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4489-E8E8-4468-80AC-10AEE7B5A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BB95-D056-46F8-8311-2FDB0528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5D4B-EF92-4C37-9B78-FAE7AF19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7C1C-D713-49E1-B1CB-5CADC9AD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072B-BA68-483D-9DC0-B5D1E3D3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B401-1FDD-46DF-81A8-1722014E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FAB7-B10E-47C2-ADAD-E8050EC6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8CBB-959D-48C2-8D81-6BDC51C7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771E-9FAB-44D5-9579-EF34B33A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B183-C654-40EB-8B73-E283AF710CC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5B63-B644-41D4-9CFD-CDBBAD3C2F0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27280" y="404640"/>
            <a:ext cx="7772400" cy="1541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 u="sng">
                <a:solidFill>
                  <a:srgbClr val="ff3300"/>
                </a:solidFill>
                <a:uFillTx/>
                <a:latin typeface="Bradley Hand ITC"/>
              </a:rPr>
              <a:t>A kocka</a:t>
            </a:r>
            <a:endParaRPr b="0" lang="en-US" sz="8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92360" y="2276640"/>
            <a:ext cx="61214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Bradley Hand ITC"/>
              </a:rPr>
              <a:t>A kocka életünk  alapjainak az alakzata. Ha csak szétnézünk magunk körül rengeteg kocka alakú test vesz minket körül!!!!!!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Bradley Hand ITC"/>
              </a:rPr>
              <a:t>A következőkben néhány érdekesség!!!!!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Edwardian Script ITC"/>
              </a:rPr>
              <a:t>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5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900000" y="1773360"/>
            <a:ext cx="1943280" cy="187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0" y="476280"/>
            <a:ext cx="377208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spcBef>
                <a:spcPts val="700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800"/>
                </a:solidFill>
                <a:latin typeface="Comic Sans MS"/>
              </a:rPr>
              <a:t>A kockát 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egyenlő négyzetla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b800"/>
                </a:solidFill>
                <a:latin typeface="Comic Sans MS"/>
              </a:rPr>
              <a:t>határolj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-511920">
              <a:spcBef>
                <a:spcPts val="700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800"/>
                </a:solidFill>
                <a:latin typeface="Comic Sans MS"/>
              </a:rPr>
              <a:t>A kocka minden éle egyenlő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-511920">
              <a:spcBef>
                <a:spcPts val="700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800"/>
                </a:solidFill>
                <a:latin typeface="Comic Sans MS"/>
              </a:rPr>
              <a:t>Az ,,alsó’’ és a ,,felső’’ lapo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alapnak</a:t>
            </a:r>
            <a:r>
              <a:rPr b="0" lang="en-US" sz="2800" spc="-1" strike="noStrike">
                <a:solidFill>
                  <a:srgbClr val="ffb800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b800"/>
                </a:solidFill>
                <a:latin typeface="Comic Sans MS"/>
              </a:rPr>
              <a:t>a többi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oldallapna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b800"/>
                </a:solidFill>
                <a:latin typeface="Comic Sans MS"/>
              </a:rPr>
              <a:t>nevezzü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-511920">
              <a:spcBef>
                <a:spcPts val="700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800"/>
                </a:solidFill>
                <a:latin typeface="Comic Sans MS"/>
              </a:rPr>
              <a:t>A kockának 6 lapja, 12 éle, 8 csúcsa va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3716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Bold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699640" y="3716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92360" y="2708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Bold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87280" y="2708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Bol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1557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Bold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43280" y="16286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Bold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16360" y="1700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9236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Bold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87280" y="9079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Bold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547640" y="3429000"/>
            <a:ext cx="5032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5640" y="4365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92360" y="2997360"/>
            <a:ext cx="1429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48000" y="3789360"/>
            <a:ext cx="129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sú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340000" y="76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63640" y="33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276720" y="1988640"/>
            <a:ext cx="43164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08360" y="1700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ldall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Kocka készítés fortélya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971640" y="2133720"/>
            <a:ext cx="8636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35280" y="2133720"/>
            <a:ext cx="8636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00360" y="2133720"/>
            <a:ext cx="8636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4000" y="2133720"/>
            <a:ext cx="8636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5280" y="3068640"/>
            <a:ext cx="86508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35280" y="1197000"/>
            <a:ext cx="8636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700360" y="1989000"/>
            <a:ext cx="1429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360" y="119700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43280" y="134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835280" y="1052280"/>
            <a:ext cx="72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2626920" y="10522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08000" y="1052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692000" y="119700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1692000" y="1989000"/>
            <a:ext cx="1429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92360" y="134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826920" y="2133720"/>
            <a:ext cx="144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826920" y="2923920"/>
            <a:ext cx="144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26920" y="220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00360" y="306864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700360" y="3860640"/>
            <a:ext cx="1429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43280" y="3213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26920" y="4005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835280" y="4005360"/>
            <a:ext cx="72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8000" y="41497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1692000" y="3860640"/>
            <a:ext cx="1429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1692000" y="306864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92360" y="3213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105264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43640" y="4797360"/>
            <a:ext cx="1584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43640" y="3860640"/>
            <a:ext cx="1584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443640" y="5734080"/>
            <a:ext cx="1584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08720" y="4797360"/>
            <a:ext cx="9349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24360" y="4797360"/>
            <a:ext cx="1584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87640" y="4797360"/>
            <a:ext cx="9349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6300360" y="465264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300360" y="3860640"/>
            <a:ext cx="1429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00720" y="4005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443640" y="364464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7884720" y="3644640"/>
            <a:ext cx="1429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88000" y="3645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028000" y="386064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8028000" y="465264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172360" y="4005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028000" y="573408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028000" y="65242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172360" y="5877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443640" y="6669000"/>
            <a:ext cx="14436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884720" y="6669000"/>
            <a:ext cx="14292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88000" y="6858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300360" y="5734080"/>
            <a:ext cx="142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6300360" y="652428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00720" y="5877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2842920" y="558936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842920" y="479736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843280" y="494172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219640" y="393372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push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11280" y="981000"/>
            <a:ext cx="1512720" cy="1511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4000" y="249228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50920" y="2492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00360" y="162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00000" y="162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0920" y="9079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50920" y="907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771640" y="260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00000" y="115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95640" y="189000"/>
            <a:ext cx="374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260280"/>
            <a:ext cx="40323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Felt: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BCDA’B’C’D’-     koc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B= 4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Követ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D’B=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8360" y="2997360"/>
            <a:ext cx="2158920" cy="368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00"/>
                </a:solidFill>
                <a:uFillTx/>
                <a:latin typeface="Comic Sans MS"/>
              </a:rPr>
              <a:t>Biz: </a:t>
            </a: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D’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= 3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58920" y="333360"/>
            <a:ext cx="86508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79640" y="2997360"/>
            <a:ext cx="28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1280" y="350028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D’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= 3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47640" y="3645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3860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D’B=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 √</a:t>
            </a: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4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332000" y="3933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4292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D’B=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4√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59280" y="2060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=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24360" y="2133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 =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96000" y="227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00360" y="306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=a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627280" y="35733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=4³=64cm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64000" y="299736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40360" y="2997360"/>
            <a:ext cx="46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 =6  T =6  AB²=6  4²=6  16=96c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11640" y="3141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5928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919840" y="3525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716360" y="3141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64000" y="3141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19640" y="436572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227640" y="3141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3280" y="386064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77080" y="3141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 u="sng">
                <a:solidFill>
                  <a:srgbClr val="ff3300"/>
                </a:solidFill>
                <a:uFillTx/>
                <a:latin typeface="Bradley Hand ITC"/>
              </a:rPr>
              <a:t>Készítette: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2124000" y="2421000"/>
            <a:ext cx="6769080" cy="23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6600"/>
                </a:solidFill>
                <a:latin typeface="Comic Sans MS"/>
              </a:rPr>
              <a:t>Czimerma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6600"/>
                </a:solidFill>
                <a:latin typeface="Comic Sans MS"/>
              </a:rPr>
              <a:t>              </a:t>
            </a:r>
            <a:r>
              <a:rPr b="0" lang="hu-HU" sz="4000" spc="-1" strike="noStrike">
                <a:solidFill>
                  <a:srgbClr val="ff6600"/>
                </a:solidFill>
                <a:latin typeface="Comic Sans MS"/>
              </a:rPr>
              <a:t>Adrien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6600"/>
                </a:solidFill>
                <a:latin typeface="Comic Sans MS"/>
              </a:rPr>
              <a:t>      </a:t>
            </a:r>
            <a:r>
              <a:rPr b="0" lang="hu-HU" sz="4000" spc="-1" strike="noStrike">
                <a:solidFill>
                  <a:srgbClr val="ff6600"/>
                </a:solidFill>
                <a:latin typeface="Comic Sans MS"/>
              </a:rPr>
              <a:t>VIII. osztály</a:t>
            </a: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cover dir="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4:28:46Z</dcterms:created>
  <dc:creator>123 456 789,00</dc:creator>
  <dc:description/>
  <dc:language>en-US</dc:language>
  <cp:lastModifiedBy>Zoli</cp:lastModifiedBy>
  <dcterms:modified xsi:type="dcterms:W3CDTF">2011-01-14T15:06:50Z</dcterms:modified>
  <cp:revision>7</cp:revision>
  <dc:subject/>
  <dc:title>A kocka</dc:title>
</cp:coreProperties>
</file>